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57664-11C8-4801-97CE-86B78B990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CB242-AA83-4FDA-8F3D-14798DF73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4CC4B-996F-43E1-94F8-0BFAD4400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60E37-3CCC-427D-878D-9D72C12AD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19943-D1E9-498D-84D5-32CBA25D7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74034-1621-4E68-A768-3364C10B1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4B04B-DB0D-4EF0-BE50-BBE97D6F5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60AEC-793E-48D1-8BFE-5B86495D4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514B6-86D7-419C-AB4F-F0BC6C002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C2C89-2539-4FF2-BD00-19F84F68D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9B4B6-8F7C-4903-8DCD-DED06CE3A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720AD-5007-41CD-8969-1621FB7B7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6D94-496E-44A3-A334-108675DE47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DCWG Report Aug 10, 2006 Objectives</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y Performance June and Ju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CPS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MS1 data and NERC Outlier assess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Frequency Response and Shoulder Month Bias recommend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Frequency below 59.910 and Responsive Reserve Service not deployed (July 27, 2006)</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7200" y="1219320"/>
            <a:ext cx="8305920" cy="5564160"/>
          </a:xfrm>
          <a:prstGeom prst="rect">
            <a:avLst/>
          </a:prstGeom>
          <a:ln w="0">
            <a:noFill/>
          </a:ln>
        </p:spPr>
      </p:pic>
      <p:sp>
        <p:nvSpPr>
          <p:cNvPr id="53" name=""/>
          <p:cNvSpPr/>
          <p:nvPr/>
        </p:nvSpPr>
        <p:spPr>
          <a:xfrm>
            <a:off x="304920" y="228600"/>
            <a:ext cx="8686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RC Resources Subcommittee is demonstrating the usefulness of RMS1 data in evaluating interconnection frequency and reliability.  RMS1 “Outlier” days were identified and events that contribute to the higher RMS1 values were repor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RCOT Frequency Response Performance</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B” and “B+30” frequency response is calculat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er months (Oct-April) performance “averaged” for ERCOT frequency control Bias sett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er months (May-Sept) performance “averaged” for ERCOT frequency control Bias sett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2006 Shoulder month Bias calculated to be 520.25 MW/0.1 H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558120"/>
          </a:xfrm>
          <a:prstGeom prst="rect">
            <a:avLst/>
          </a:prstGeom>
          <a:ln w="0">
            <a:noFill/>
          </a:ln>
        </p:spPr>
      </p:pic>
      <p:sp>
        <p:nvSpPr>
          <p:cNvPr id="57" name=""/>
          <p:cNvSpPr/>
          <p:nvPr/>
        </p:nvSpPr>
        <p:spPr>
          <a:xfrm>
            <a:off x="6400800" y="1752480"/>
            <a:ext cx="1828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nd line 30 event rolling ave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1981080" y="4952880"/>
            <a:ext cx="1828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nd line 30 event rolling ave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981080" y="4952880"/>
            <a:ext cx="1828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nd line 30 event rolling ave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2514600" y="2133720"/>
            <a:ext cx="1828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nd line 30 event rolling ave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4038480" y="5105520"/>
            <a:ext cx="1828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nd line 25 event rolling ave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 name=""/>
          <p:cNvGrpSpPr/>
          <p:nvPr/>
        </p:nvGrpSpPr>
        <p:grpSpPr>
          <a:xfrm>
            <a:off x="2133720" y="77760"/>
            <a:ext cx="5714640" cy="5331600"/>
            <a:chOff x="2133720" y="77760"/>
            <a:chExt cx="5714640" cy="5331600"/>
          </a:xfrm>
        </p:grpSpPr>
        <p:pic>
          <p:nvPicPr>
            <p:cNvPr id="67" name="" descr=""/>
            <p:cNvPicPr/>
            <p:nvPr/>
          </p:nvPicPr>
          <p:blipFill>
            <a:blip r:embed="rId1"/>
            <a:stretch/>
          </p:blipFill>
          <p:spPr>
            <a:xfrm>
              <a:off x="6015600" y="108720"/>
              <a:ext cx="1832760" cy="1293120"/>
            </a:xfrm>
            <a:prstGeom prst="rect">
              <a:avLst/>
            </a:prstGeom>
            <a:ln w="0">
              <a:noFill/>
            </a:ln>
          </p:spPr>
        </p:pic>
        <p:pic>
          <p:nvPicPr>
            <p:cNvPr id="68" name="" descr=""/>
            <p:cNvPicPr/>
            <p:nvPr/>
          </p:nvPicPr>
          <p:blipFill>
            <a:blip r:embed="rId2"/>
            <a:stretch/>
          </p:blipFill>
          <p:spPr>
            <a:xfrm>
              <a:off x="4505400" y="77760"/>
              <a:ext cx="1617120" cy="1286280"/>
            </a:xfrm>
            <a:prstGeom prst="rect">
              <a:avLst/>
            </a:prstGeom>
            <a:ln w="0">
              <a:noFill/>
            </a:ln>
          </p:spPr>
        </p:pic>
        <p:grpSp>
          <p:nvGrpSpPr>
            <p:cNvPr id="69" name=""/>
            <p:cNvGrpSpPr/>
            <p:nvPr/>
          </p:nvGrpSpPr>
          <p:grpSpPr>
            <a:xfrm>
              <a:off x="2133720" y="1398960"/>
              <a:ext cx="5403600" cy="4010400"/>
              <a:chOff x="2133720" y="1398960"/>
              <a:chExt cx="5403600" cy="4010400"/>
            </a:xfrm>
          </p:grpSpPr>
          <p:pic>
            <p:nvPicPr>
              <p:cNvPr id="70" name="" descr=""/>
              <p:cNvPicPr/>
              <p:nvPr/>
            </p:nvPicPr>
            <p:blipFill>
              <a:blip r:embed="rId3"/>
              <a:stretch/>
            </p:blipFill>
            <p:spPr>
              <a:xfrm>
                <a:off x="2133720" y="1398960"/>
                <a:ext cx="2342520" cy="4010400"/>
              </a:xfrm>
              <a:prstGeom prst="rect">
                <a:avLst/>
              </a:prstGeom>
              <a:ln w="0">
                <a:noFill/>
              </a:ln>
            </p:spPr>
          </p:pic>
          <p:pic>
            <p:nvPicPr>
              <p:cNvPr id="71" name="" descr=""/>
              <p:cNvPicPr/>
              <p:nvPr/>
            </p:nvPicPr>
            <p:blipFill>
              <a:blip r:embed="rId4"/>
              <a:stretch/>
            </p:blipFill>
            <p:spPr>
              <a:xfrm>
                <a:off x="4721400" y="1398960"/>
                <a:ext cx="1251000" cy="4010400"/>
              </a:xfrm>
              <a:prstGeom prst="rect">
                <a:avLst/>
              </a:prstGeom>
              <a:ln w="0">
                <a:noFill/>
              </a:ln>
            </p:spPr>
          </p:pic>
          <p:pic>
            <p:nvPicPr>
              <p:cNvPr id="72" name="" descr=""/>
              <p:cNvPicPr/>
              <p:nvPr/>
            </p:nvPicPr>
            <p:blipFill>
              <a:blip r:embed="rId5"/>
              <a:stretch/>
            </p:blipFill>
            <p:spPr>
              <a:xfrm>
                <a:off x="6230520" y="1398960"/>
                <a:ext cx="1306800" cy="4010400"/>
              </a:xfrm>
              <a:prstGeom prst="rect">
                <a:avLst/>
              </a:prstGeom>
              <a:ln w="0">
                <a:noFill/>
              </a:ln>
            </p:spPr>
          </p:pic>
        </p:grpSp>
      </p:grpSp>
      <p:pic>
        <p:nvPicPr>
          <p:cNvPr id="73" name="" descr=""/>
          <p:cNvPicPr/>
          <p:nvPr/>
        </p:nvPicPr>
        <p:blipFill>
          <a:blip r:embed="rId6"/>
          <a:stretch/>
        </p:blipFill>
        <p:spPr>
          <a:xfrm>
            <a:off x="4724280" y="5433840"/>
            <a:ext cx="1219320" cy="281160"/>
          </a:xfrm>
          <a:prstGeom prst="rect">
            <a:avLst/>
          </a:prstGeom>
          <a:ln w="0">
            <a:noFill/>
          </a:ln>
        </p:spPr>
      </p:pic>
      <p:pic>
        <p:nvPicPr>
          <p:cNvPr id="74" name="" descr=""/>
          <p:cNvPicPr/>
          <p:nvPr/>
        </p:nvPicPr>
        <p:blipFill>
          <a:blip r:embed="rId7"/>
          <a:stretch/>
        </p:blipFill>
        <p:spPr>
          <a:xfrm>
            <a:off x="6172200" y="5424480"/>
            <a:ext cx="1371600" cy="252360"/>
          </a:xfrm>
          <a:prstGeom prst="rect">
            <a:avLst/>
          </a:prstGeom>
          <a:ln w="0">
            <a:noFill/>
          </a:ln>
        </p:spPr>
      </p:pic>
      <p:sp>
        <p:nvSpPr>
          <p:cNvPr id="75" name=""/>
          <p:cNvSpPr/>
          <p:nvPr/>
        </p:nvSpPr>
        <p:spPr>
          <a:xfrm>
            <a:off x="228600" y="0"/>
            <a:ext cx="4267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Seasonal Frequency Response (Oct ’05 through Apr ’06)</a:t>
            </a:r>
            <a:endParaRPr b="0" lang="en-US" sz="2000" spc="-1" strike="noStrike">
              <a:solidFill>
                <a:srgbClr val="000000"/>
              </a:solidFill>
              <a:latin typeface="Arial"/>
            </a:endParaRPr>
          </a:p>
        </p:txBody>
      </p:sp>
      <p:sp>
        <p:nvSpPr>
          <p:cNvPr id="76" name=""/>
          <p:cNvSpPr/>
          <p:nvPr/>
        </p:nvSpPr>
        <p:spPr>
          <a:xfrm>
            <a:off x="3581280" y="59436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of B &amp; B+30 = 520.25 MW/0.1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533520" y="1038240"/>
            <a:ext cx="8181720" cy="5819760"/>
          </a:xfrm>
          <a:prstGeom prst="rect">
            <a:avLst/>
          </a:prstGeom>
          <a:ln w="0">
            <a:noFill/>
          </a:ln>
        </p:spPr>
      </p:pic>
      <p:sp>
        <p:nvSpPr>
          <p:cNvPr id="7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ve Reserve Service not deplo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457200" y="1052640"/>
            <a:ext cx="8458200" cy="5805360"/>
          </a:xfrm>
          <a:prstGeom prst="rect">
            <a:avLst/>
          </a:prstGeom>
          <a:ln w="0">
            <a:noFill/>
          </a:ln>
        </p:spPr>
      </p:pic>
      <p:sp>
        <p:nvSpPr>
          <p:cNvPr id="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Participant Frequency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DCWG Report Objectives Continued</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t meeting with the WMS FCT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al assignment</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Spin deploy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as Sett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suppo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i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CTF and PDCWG Joint Meeting</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CWG recommended that the ERCOT minimum frequency response from resources (that respond to high and low frequency deviation outside +/- 0.036 Hz) be 420 MW/0.1 Hz</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CTF reported to WMS that the minimum ERCOT frequency Bias should be 420 MW/0.1 Hz.  This is considerably lower than the PDCWG’s recommendation since Bias includes firm load’s response to frequenc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DCWG recommended that all resources must have an operating governor and that the governor must be in servi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CTF recommends that non-bidders of Governor Response Service are not required to have governors in serv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int Meeting Continued</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CTF recommended that there should be a Governor Response Service.  The PDCWG agre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CTF wants the bid process to be on a portfolio basis in a zonal market and per unit basis in a nodal marke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DCWG expressed concerns that a unit operating at its LOL or HOL and awarded GRS would be unable to respond beyond these limits.  The PDCWG agreed that individual resource performance measurements would be necessary in the nodal mark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dal Market Frequency Control Bias Setting and Non Spin Deployment Procedure</a:t>
            </a:r>
            <a:endParaRPr b="0" lang="en-US" sz="36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as Setting determination should be similar to zonal market procedure.  Draft procedure is includ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Spin Deploy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han present zonal deploymen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ly an energy deployment that has caused some frequency control problems at both the beginning deployment period and recall perio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al Non-Spin is a capacity deployment with on-line resources making reserved non-spin capacity available to SCED and off-line resources brought on-line to LOL and its capacity made available to SCED.  Non-spin capacity is then deployed like all other capacity available to SC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dal Non-Spin Deployment</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minutes from notification of deployment to time non-spin capacity is made available to SC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Operations should be able to deploy Non-spin at any tim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response to a Resource loss to restore Responsive  Reserves if capacity available to SCED is less than needed to restore RRS and a minimum Reg Up reserv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response to capacity shortages due to Load Forecast errors, capacity limits on resources or non-congested capacity available to SCED is less than minimum capacity reserve limit.  This limit could be similar to the present 7% paper reduction in available reserv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response to maintaining a minimum amount of Up Regulation Service availability for peak 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RCOT Operations and Compliance working group support</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to Jeff Healy and Robert Staples for their past support and hard work they gave the PDCW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to Chad Thompson for his interim support of the PDCW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3760" y="0"/>
            <a:ext cx="90964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3760" y="0"/>
            <a:ext cx="90964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7240" y="0"/>
            <a:ext cx="90295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7240" y="0"/>
            <a:ext cx="902952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89917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2T18:57:13Z</dcterms:created>
  <dc:creator>Sydney L. Niemeyer</dc:creator>
  <dc:description/>
  <dc:language>en-US</dc:language>
  <cp:lastModifiedBy>Sydney L. Niemeyer</cp:lastModifiedBy>
  <dcterms:modified xsi:type="dcterms:W3CDTF">2006-08-03T19:59:37Z</dcterms:modified>
  <cp:revision>4</cp:revision>
  <dc:subject/>
  <dc:title>Slide 1</dc:title>
</cp:coreProperties>
</file>